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55.jpeg" ContentType="image/jpeg"/>
  <Override PartName="/ppt/media/image43.png" ContentType="image/png"/>
  <Override PartName="/ppt/media/image54.jpeg" ContentType="image/jpeg"/>
  <Override PartName="/ppt/media/image33.png" ContentType="image/png"/>
  <Override PartName="/ppt/media/image51.jpeg" ContentType="image/jpeg"/>
  <Override PartName="/ppt/media/image23.wmf" ContentType="image/x-wmf"/>
  <Override PartName="/ppt/media/image7.jpeg" ContentType="image/jpeg"/>
  <Override PartName="/ppt/media/image28.png" ContentType="image/png"/>
  <Override PartName="/ppt/media/image14.wmf" ContentType="image/x-wmf"/>
  <Override PartName="/ppt/media/image58.jpeg" ContentType="image/jpeg"/>
  <Override PartName="/ppt/media/image29.png" ContentType="image/png"/>
  <Override PartName="/ppt/media/image63.jpeg" ContentType="image/jpeg"/>
  <Override PartName="/ppt/media/image40.png" ContentType="image/png"/>
  <Override PartName="/ppt/media/image4.jpeg" ContentType="image/jpeg"/>
  <Override PartName="/ppt/media/image32.png" ContentType="image/png"/>
  <Override PartName="/ppt/media/image25.jpeg" ContentType="image/jpeg"/>
  <Override PartName="/ppt/media/image62.wmf" ContentType="image/x-wmf"/>
  <Override PartName="/ppt/media/image24.jpeg" ContentType="image/jpeg"/>
  <Override PartName="/ppt/media/image30.png" ContentType="image/png"/>
  <Override PartName="/ppt/media/image16.wmf" ContentType="image/x-wmf"/>
  <Override PartName="/ppt/media/image60.jpeg" ContentType="image/jpeg"/>
  <Override PartName="/ppt/media/image64.png" ContentType="image/png"/>
  <Override PartName="/ppt/media/image15.jpeg" ContentType="image/jpeg"/>
  <Override PartName="/ppt/media/image27.png" ContentType="image/png"/>
  <Override PartName="/ppt/media/image22.wmf" ContentType="image/x-wmf"/>
  <Override PartName="/ppt/media/image20.jpeg" ContentType="image/jpeg"/>
  <Override PartName="/ppt/media/image19.png" ContentType="image/png"/>
  <Override PartName="/ppt/media/image47.png" ContentType="image/png"/>
  <Override PartName="/ppt/media/image18.jpeg" ContentType="image/jpeg"/>
  <Override PartName="/ppt/media/image17.jpeg" ContentType="image/jpeg"/>
  <Override PartName="/ppt/media/image1.jpeg" ContentType="image/jpeg"/>
  <Override PartName="/ppt/media/image21.png" ContentType="image/png"/>
  <Override PartName="/ppt/media/image36.png" ContentType="image/png"/>
  <Override PartName="/ppt/media/image9.jpeg" ContentType="image/jpeg"/>
  <Override PartName="/ppt/media/image48.png" ContentType="image/png"/>
  <Override PartName="/ppt/media/image11.jpeg" ContentType="image/jpeg"/>
  <Override PartName="/ppt/media/image12.png" ContentType="image/png"/>
  <Override PartName="/ppt/media/image49.png" ContentType="image/png"/>
  <Override PartName="/ppt/media/image65.jpeg" ContentType="image/jpeg"/>
  <Override PartName="/ppt/media/image38.png" ContentType="image/png"/>
  <Override PartName="/ppt/media/image8.jpeg" ContentType="image/jpeg"/>
  <Override PartName="/ppt/media/image26.png" ContentType="image/png"/>
  <Override PartName="/ppt/media/image5.wmf" ContentType="image/x-wmf"/>
  <Override PartName="/ppt/media/image10.jpeg" ContentType="image/jpeg"/>
  <Override PartName="/ppt/media/image13.wmf" ContentType="image/x-wmf"/>
  <Override PartName="/ppt/media/image50.jpeg" ContentType="image/jpeg"/>
  <Override PartName="/ppt/media/image2.jpeg" ContentType="image/jpeg"/>
  <Override PartName="/ppt/media/image31.png" ContentType="image/png"/>
  <Override PartName="/ppt/media/image53.png" ContentType="image/png"/>
  <Override PartName="/ppt/media/image56.jpeg" ContentType="image/jpeg"/>
  <Override PartName="/ppt/media/image34.png" ContentType="image/png"/>
  <Override PartName="/ppt/media/image35.png" ContentType="image/png"/>
  <Override PartName="/ppt/media/image37.png" ContentType="image/png"/>
  <Override PartName="/ppt/media/image61.wmf" ContentType="image/x-wmf"/>
  <Override PartName="/ppt/media/image39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57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5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8026-EC0A-408F-B99C-80A1B18BF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40CD-0ABD-4E2F-A848-030888AB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B24A-1879-458D-9DC1-8D460E2F9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39A1-13AA-47C2-9819-C5F9511E7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66C1-ECE8-4A36-AE1A-B5274CBE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9748-14BD-478B-8D08-9879A925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87B5-355B-45C0-B8EE-C6DD63AD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EAE4-C8D6-4CC6-9040-D9E4B0EA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64F2-8C1A-45B9-9FC9-475F2E78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E084-CCD0-4B91-BA07-855FFCDA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4A26-7C92-427D-9CDE-E3318B87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868A-3B61-4C3F-9A73-1E7E966E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79280" y="100080"/>
            <a:ext cx="863640" cy="807840"/>
          </a:xfrm>
          <a:prstGeom prst="pentagon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3E79-3E6E-4BC2-8E9F-648A8A7B07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" Target="slide2.xml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image" Target="../media/image22.wmf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image" Target="../media/image37.png"/><Relationship Id="rId1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9.png"/><Relationship Id="rId1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6.xml"/><Relationship Id="rId9" Type="http://schemas.openxmlformats.org/officeDocument/2006/relationships/slide" Target="slide20.xml"/><Relationship Id="rId10" Type="http://schemas.openxmlformats.org/officeDocument/2006/relationships/slide" Target="slide22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wmf"/><Relationship Id="rId5" Type="http://schemas.openxmlformats.org/officeDocument/2006/relationships/image" Target="../media/image62.wmf"/><Relationship Id="rId6" Type="http://schemas.openxmlformats.org/officeDocument/2006/relationships/slideLayout" Target="../slideLayouts/slideLayout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63.jpeg"/><Relationship Id="rId4" Type="http://schemas.openxmlformats.org/officeDocument/2006/relationships/image" Target="../media/image64.png"/><Relationship Id="rId5" Type="http://schemas.openxmlformats.org/officeDocument/2006/relationships/image" Target="../media/image65.jpeg"/><Relationship Id="rId6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" Target="slide2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2333520" y="385920"/>
            <a:ext cx="4575240" cy="4107960"/>
            <a:chOff x="2333520" y="385920"/>
            <a:chExt cx="4575240" cy="4107960"/>
          </a:xfrm>
        </p:grpSpPr>
        <p:sp>
          <p:nvSpPr>
            <p:cNvPr id="43" name=""/>
            <p:cNvSpPr/>
            <p:nvPr/>
          </p:nvSpPr>
          <p:spPr>
            <a:xfrm>
              <a:off x="2338560" y="401040"/>
              <a:ext cx="4570200" cy="4092840"/>
            </a:xfrm>
            <a:prstGeom prst="pentagon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2333520" y="385920"/>
              <a:ext cx="4573080" cy="4090320"/>
              <a:chOff x="2333520" y="385920"/>
              <a:chExt cx="4573080" cy="4090320"/>
            </a:xfrm>
          </p:grpSpPr>
          <p:sp>
            <p:nvSpPr>
              <p:cNvPr id="45" name=""/>
              <p:cNvSpPr/>
              <p:nvPr/>
            </p:nvSpPr>
            <p:spPr>
              <a:xfrm>
                <a:off x="2333520" y="405720"/>
                <a:ext cx="4573080" cy="4064400"/>
              </a:xfrm>
              <a:prstGeom prst="pentagon">
                <a:avLst/>
              </a:prstGeom>
              <a:noFill/>
              <a:ln w="2232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2333520" y="405720"/>
                <a:ext cx="4573080" cy="405252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333520" y="1954440"/>
                <a:ext cx="457308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233880" y="385920"/>
                <a:ext cx="1386000" cy="40554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233880" y="1972440"/>
                <a:ext cx="3668760" cy="248580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619880" y="403200"/>
                <a:ext cx="1385280" cy="40554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356200" y="1972440"/>
                <a:ext cx="3668760" cy="250380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3746160" y="1957320"/>
              <a:ext cx="1755720" cy="1572480"/>
              <a:chOff x="3746160" y="1957320"/>
              <a:chExt cx="1755720" cy="1572480"/>
            </a:xfrm>
          </p:grpSpPr>
          <p:sp>
            <p:nvSpPr>
              <p:cNvPr id="53" name=""/>
              <p:cNvSpPr/>
              <p:nvPr/>
            </p:nvSpPr>
            <p:spPr>
              <a:xfrm rot="10800000">
                <a:off x="3746160" y="1959480"/>
                <a:ext cx="1755720" cy="1562760"/>
              </a:xfrm>
              <a:prstGeom prst="pentagon">
                <a:avLst/>
              </a:prstGeom>
              <a:noFill/>
              <a:ln w="936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10800000">
                <a:off x="3746160" y="1964160"/>
                <a:ext cx="1755720" cy="155808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>
                <a:off x="3746160" y="2926800"/>
                <a:ext cx="175572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10800000">
                <a:off x="4624200" y="1970640"/>
                <a:ext cx="532080" cy="155916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0800000">
                <a:off x="3747960" y="1964160"/>
                <a:ext cx="1408320" cy="95580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10800000">
                <a:off x="4092480" y="1964160"/>
                <a:ext cx="531720" cy="155916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0800000">
                <a:off x="4084920" y="1957320"/>
                <a:ext cx="1408320" cy="96264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4278240" y="2325960"/>
              <a:ext cx="684360" cy="598680"/>
              <a:chOff x="4278240" y="2325960"/>
              <a:chExt cx="684360" cy="598680"/>
            </a:xfrm>
          </p:grpSpPr>
          <p:sp>
            <p:nvSpPr>
              <p:cNvPr id="61" name=""/>
              <p:cNvSpPr/>
              <p:nvPr/>
            </p:nvSpPr>
            <p:spPr>
              <a:xfrm>
                <a:off x="4278240" y="2328840"/>
                <a:ext cx="684360" cy="595440"/>
              </a:xfrm>
              <a:prstGeom prst="pentagon">
                <a:avLst/>
              </a:prstGeom>
              <a:noFill/>
              <a:ln w="936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278240" y="2328840"/>
                <a:ext cx="684360" cy="59364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278240" y="2555640"/>
                <a:ext cx="68436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412880" y="2325960"/>
                <a:ext cx="207360" cy="5940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412880" y="2558160"/>
                <a:ext cx="549000" cy="36396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620240" y="2328480"/>
                <a:ext cx="207360" cy="5940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281480" y="2558160"/>
                <a:ext cx="549000" cy="36648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90240"/>
            <a:ext cx="8136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r>
              <a:rPr b="0" lang="en-US" sz="6600" spc="-1" strike="noStrike">
                <a:solidFill>
                  <a:srgbClr val="d40056"/>
                </a:solidFill>
                <a:latin typeface="GothicRus"/>
              </a:rPr>
              <a:t>«Золотое сечение»</a:t>
            </a:r>
            <a:br>
              <a:rPr sz="6600"/>
            </a:br>
            <a:br>
              <a:rPr sz="2800"/>
            </a:br>
            <a:br>
              <a:rPr sz="6600"/>
            </a:br>
            <a:br>
              <a:rPr sz="1200"/>
            </a:br>
            <a:br>
              <a:rPr sz="6600"/>
            </a:br>
            <a:br>
              <a:rPr sz="1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иртуальны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акультати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874440" y="5149800"/>
            <a:ext cx="769788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Составитель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- Процко Т.М. –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учитель математики МГМЛ при МГТУ им. Г.И.Носов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2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63400" y="1192320"/>
            <a:ext cx="3384720" cy="27082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527720" y="1384200"/>
            <a:ext cx="4000320" cy="162900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76800" y="6024960"/>
            <a:ext cx="36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порции, близкие к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4" action="ppaction://hlinksldjump"/>
              </a:rPr>
              <a:t>золотому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сечени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1243080" y="4005360"/>
            <a:ext cx="1647720" cy="266364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3529080" y="4307040"/>
            <a:ext cx="5040360" cy="10396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5003640" y="5315040"/>
            <a:ext cx="2016360" cy="646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8"/>
          <a:stretch/>
        </p:blipFill>
        <p:spPr>
          <a:xfrm>
            <a:off x="5905440" y="3054240"/>
            <a:ext cx="1297080" cy="609840"/>
          </a:xfrm>
          <a:prstGeom prst="rect">
            <a:avLst/>
          </a:prstGeom>
          <a:ln w="0">
            <a:noFill/>
          </a:ln>
        </p:spPr>
      </p:pic>
      <p:grpSp>
        <p:nvGrpSpPr>
          <p:cNvPr id="167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68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75960" y="37800"/>
            <a:ext cx="769932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Пристальное и глубоко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учение природы есть источн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самых плодотворных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крытий математи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Фурье Ж.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Не знающи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ометр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а не войдёт в Академию»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Плато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780000" y="1196640"/>
            <a:ext cx="5122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нтаграм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тайный знак пифагорейского братства – была выбрана ими в качестве символа жизни и здоров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гласно легенде , один пифагореец заболел на чужбине и не мог перед смертью расплатиться с ухаживающим за ним хозяином дома. Последний нарисовал на стене своего дом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вёздчатый пятиугольн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Увидав через несколько лет этот знак, другой странствующий пифагореец осведомился о случившимся у хозяина и щедро его вознагради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90080" y="836640"/>
            <a:ext cx="8655480" cy="286560"/>
            <a:chOff x="190080" y="836640"/>
            <a:chExt cx="8655480" cy="286560"/>
          </a:xfrm>
        </p:grpSpPr>
        <p:sp>
          <p:nvSpPr>
            <p:cNvPr id="174" name=""/>
            <p:cNvSpPr/>
            <p:nvPr/>
          </p:nvSpPr>
          <p:spPr>
            <a:xfrm flipH="1" rot="5400000">
              <a:off x="4452120" y="-325692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6200000">
              <a:off x="4399920" y="-337248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93680" y="1584000"/>
            <a:ext cx="3889440" cy="3754440"/>
            <a:chOff x="193680" y="1584000"/>
            <a:chExt cx="3889440" cy="3754440"/>
          </a:xfrm>
        </p:grpSpPr>
        <p:sp>
          <p:nvSpPr>
            <p:cNvPr id="177" name=""/>
            <p:cNvSpPr/>
            <p:nvPr/>
          </p:nvSpPr>
          <p:spPr>
            <a:xfrm rot="10800000">
              <a:off x="193680" y="1584000"/>
              <a:ext cx="3889440" cy="3754440"/>
            </a:xfrm>
            <a:prstGeom prst="verticalScroll">
              <a:avLst>
                <a:gd name="adj" fmla="val 802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91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573120" y="1743120"/>
              <a:ext cx="3109680" cy="3109680"/>
              <a:chOff x="573120" y="1743120"/>
              <a:chExt cx="3109680" cy="310968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573120" y="1743120"/>
                <a:ext cx="3109680" cy="3109680"/>
                <a:chOff x="573120" y="1743120"/>
                <a:chExt cx="3109680" cy="310968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573120" y="1758600"/>
                  <a:ext cx="3109680" cy="3080880"/>
                </a:xfrm>
                <a:prstGeom prst="star5">
                  <a:avLst/>
                </a:prstGeom>
                <a:noFill/>
                <a:ln w="936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73120" y="2936160"/>
                  <a:ext cx="3109680" cy="0"/>
                </a:xfrm>
                <a:prstGeom prst="line">
                  <a:avLst/>
                </a:prstGeom>
                <a:ln w="1260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185480" y="1743120"/>
                  <a:ext cx="942480" cy="308304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426" y="0"/>
                      </a:moveTo>
                      <a:lnTo>
                        <a:pt x="0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185480" y="2949480"/>
                  <a:ext cx="2494800" cy="1890000"/>
                </a:xfrm>
                <a:custGeom>
                  <a:avLst/>
                  <a:gdLst/>
                  <a:ahLst/>
                  <a:rect l="l" t="t" r="r" b="b"/>
                  <a:pathLst>
                    <a:path w="1128" h="846">
                      <a:moveTo>
                        <a:pt x="1128" y="0"/>
                      </a:moveTo>
                      <a:lnTo>
                        <a:pt x="0" y="846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127960" y="1756080"/>
                  <a:ext cx="941760" cy="308340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0" y="0"/>
                      </a:moveTo>
                      <a:lnTo>
                        <a:pt x="426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87880" y="2949480"/>
                  <a:ext cx="2495160" cy="1903320"/>
                </a:xfrm>
                <a:custGeom>
                  <a:avLst/>
                  <a:gdLst/>
                  <a:ahLst/>
                  <a:rect l="l" t="t" r="r" b="b"/>
                  <a:pathLst>
                    <a:path w="1128" h="852">
                      <a:moveTo>
                        <a:pt x="0" y="0"/>
                      </a:moveTo>
                      <a:lnTo>
                        <a:pt x="1128" y="852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1539720" y="2944800"/>
                <a:ext cx="1177920" cy="1184040"/>
                <a:chOff x="1539720" y="2944800"/>
                <a:chExt cx="1177920" cy="1184040"/>
              </a:xfrm>
            </p:grpSpPr>
            <p:sp>
              <p:nvSpPr>
                <p:cNvPr id="187" name=""/>
                <p:cNvSpPr/>
                <p:nvPr/>
              </p:nvSpPr>
              <p:spPr>
                <a:xfrm rot="10800000">
                  <a:off x="1539720" y="2946600"/>
                  <a:ext cx="1177920" cy="1176480"/>
                </a:xfrm>
                <a:prstGeom prst="pentagon">
                  <a:avLst/>
                </a:prstGeom>
                <a:noFill/>
                <a:ln w="9360">
                  <a:solidFill>
                    <a:srgbClr val="e827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10800000">
                  <a:off x="1539720" y="2950200"/>
                  <a:ext cx="1177920" cy="1172880"/>
                </a:xfrm>
                <a:prstGeom prst="star5">
                  <a:avLst/>
                </a:prstGeom>
                <a:noFill/>
                <a:ln w="936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H="1">
                  <a:off x="1539720" y="3674880"/>
                  <a:ext cx="1177920" cy="0"/>
                </a:xfrm>
                <a:prstGeom prst="line">
                  <a:avLst/>
                </a:prstGeom>
                <a:ln w="1260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rot="10800000">
                  <a:off x="2129040" y="2954880"/>
                  <a:ext cx="356760" cy="117396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426" y="0"/>
                      </a:moveTo>
                      <a:lnTo>
                        <a:pt x="0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rot="10800000">
                  <a:off x="1540800" y="2950200"/>
                  <a:ext cx="945000" cy="719280"/>
                </a:xfrm>
                <a:custGeom>
                  <a:avLst/>
                  <a:gdLst/>
                  <a:ahLst/>
                  <a:rect l="l" t="t" r="r" b="b"/>
                  <a:pathLst>
                    <a:path w="1128" h="846">
                      <a:moveTo>
                        <a:pt x="1128" y="0"/>
                      </a:moveTo>
                      <a:lnTo>
                        <a:pt x="0" y="846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rot="10800000">
                  <a:off x="1771920" y="2950200"/>
                  <a:ext cx="356760" cy="117396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0" y="0"/>
                      </a:moveTo>
                      <a:lnTo>
                        <a:pt x="426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rot="10800000">
                  <a:off x="1766880" y="2944800"/>
                  <a:ext cx="945000" cy="724680"/>
                </a:xfrm>
                <a:custGeom>
                  <a:avLst/>
                  <a:gdLst/>
                  <a:ahLst/>
                  <a:rect l="l" t="t" r="r" b="b"/>
                  <a:pathLst>
                    <a:path w="1128" h="852">
                      <a:moveTo>
                        <a:pt x="0" y="0"/>
                      </a:moveTo>
                      <a:lnTo>
                        <a:pt x="1128" y="852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1889280" y="3222720"/>
                <a:ext cx="450720" cy="455760"/>
                <a:chOff x="1889280" y="3222720"/>
                <a:chExt cx="450720" cy="4557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1889280" y="3224880"/>
                  <a:ext cx="450720" cy="452880"/>
                </a:xfrm>
                <a:prstGeom prst="pentagon">
                  <a:avLst/>
                </a:prstGeom>
                <a:noFill/>
                <a:ln w="9360">
                  <a:solidFill>
                    <a:srgbClr val="e827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889280" y="3224880"/>
                  <a:ext cx="450720" cy="451800"/>
                </a:xfrm>
                <a:prstGeom prst="star5">
                  <a:avLst/>
                </a:prstGeom>
                <a:noFill/>
                <a:ln w="936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889280" y="3397320"/>
                  <a:ext cx="450720" cy="0"/>
                </a:xfrm>
                <a:prstGeom prst="line">
                  <a:avLst/>
                </a:prstGeom>
                <a:ln w="1260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977840" y="3222720"/>
                  <a:ext cx="136440" cy="45180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426" y="0"/>
                      </a:moveTo>
                      <a:lnTo>
                        <a:pt x="0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977840" y="3399480"/>
                  <a:ext cx="361800" cy="276840"/>
                </a:xfrm>
                <a:custGeom>
                  <a:avLst/>
                  <a:gdLst/>
                  <a:ahLst/>
                  <a:rect l="l" t="t" r="r" b="b"/>
                  <a:pathLst>
                    <a:path w="1128" h="846">
                      <a:moveTo>
                        <a:pt x="1128" y="0"/>
                      </a:moveTo>
                      <a:lnTo>
                        <a:pt x="0" y="846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114640" y="3224520"/>
                  <a:ext cx="136440" cy="45180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0" y="0"/>
                      </a:moveTo>
                      <a:lnTo>
                        <a:pt x="426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891440" y="3399480"/>
                  <a:ext cx="361800" cy="279000"/>
                </a:xfrm>
                <a:custGeom>
                  <a:avLst/>
                  <a:gdLst/>
                  <a:ahLst/>
                  <a:rect l="l" t="t" r="r" b="b"/>
                  <a:pathLst>
                    <a:path w="1128" h="852">
                      <a:moveTo>
                        <a:pt x="0" y="0"/>
                      </a:moveTo>
                      <a:lnTo>
                        <a:pt x="1128" y="852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2" name=""/>
          <p:cNvSpPr/>
          <p:nvPr/>
        </p:nvSpPr>
        <p:spPr>
          <a:xfrm>
            <a:off x="627480" y="5419800"/>
            <a:ext cx="807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«Геометрия владеет двумя сокровищами: одно из них – это теорема Пифагор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 другое – деление отрезка в «золотом сечении». Первое можно сравни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 мерой золота; второе же больше напоминает драгоценный камень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оганн Кепл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7320"/>
            <a:ext cx="82296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Ходить превыше звёзд влечёт меня охота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облаком нестись, презрев земную низкость.»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М.В.Ломоно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09160" y="836640"/>
            <a:ext cx="8655480" cy="286560"/>
            <a:chOff x="209160" y="836640"/>
            <a:chExt cx="8655480" cy="286560"/>
          </a:xfrm>
        </p:grpSpPr>
        <p:sp>
          <p:nvSpPr>
            <p:cNvPr id="205" name=""/>
            <p:cNvSpPr/>
            <p:nvPr/>
          </p:nvSpPr>
          <p:spPr>
            <a:xfrm flipH="1" rot="5400000">
              <a:off x="4471200" y="-325692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6200000">
              <a:off x="4419000" y="-337248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2987640" y="1420920"/>
            <a:ext cx="496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ентаграмму  изображали для того,  чтоб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пастись  от проникновения в дом злых дух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5960" y="2924280"/>
            <a:ext cx="382752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рывок из «Фауста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М е ф и с т о ф е л 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рудновато выйти мне тепер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ут кое – что мешает мне немног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лшебный знак у вашего поро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Ф а у с 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к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нтаграмм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этому виной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о как же бес пробрался ты за мной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ким путём впросак попался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М е ф и с т о ф е л 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зволили её вы плохо начерт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промежуток в уголку осталс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м, у дверей, - и я свободно мог вскоч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224000" y="1163520"/>
            <a:ext cx="1690560" cy="1669680"/>
            <a:chOff x="1224000" y="1163520"/>
            <a:chExt cx="1690560" cy="1669680"/>
          </a:xfrm>
        </p:grpSpPr>
        <p:grpSp>
          <p:nvGrpSpPr>
            <p:cNvPr id="210" name=""/>
            <p:cNvGrpSpPr/>
            <p:nvPr/>
          </p:nvGrpSpPr>
          <p:grpSpPr>
            <a:xfrm>
              <a:off x="1224000" y="1163520"/>
              <a:ext cx="1690560" cy="1669680"/>
              <a:chOff x="1224000" y="1163520"/>
              <a:chExt cx="1690560" cy="1669680"/>
            </a:xfrm>
          </p:grpSpPr>
          <p:sp>
            <p:nvSpPr>
              <p:cNvPr id="211" name=""/>
              <p:cNvSpPr/>
              <p:nvPr/>
            </p:nvSpPr>
            <p:spPr>
              <a:xfrm>
                <a:off x="1224000" y="1171800"/>
                <a:ext cx="1690560" cy="165456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224000" y="1803960"/>
                <a:ext cx="169056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556640" y="1163520"/>
                <a:ext cx="512280" cy="165564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556640" y="1811160"/>
                <a:ext cx="1356120" cy="101484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069280" y="1170360"/>
                <a:ext cx="511920" cy="165564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231920" y="1811160"/>
                <a:ext cx="1356480" cy="102204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1739160" y="1808640"/>
              <a:ext cx="654120" cy="628560"/>
              <a:chOff x="1739160" y="1808640"/>
              <a:chExt cx="654120" cy="628560"/>
            </a:xfrm>
          </p:grpSpPr>
          <p:sp>
            <p:nvSpPr>
              <p:cNvPr id="218" name=""/>
              <p:cNvSpPr/>
              <p:nvPr/>
            </p:nvSpPr>
            <p:spPr>
              <a:xfrm rot="10800000">
                <a:off x="1739160" y="1809720"/>
                <a:ext cx="654120" cy="624600"/>
              </a:xfrm>
              <a:prstGeom prst="pentagon">
                <a:avLst/>
              </a:prstGeom>
              <a:noFill/>
              <a:ln w="936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10800000">
                <a:off x="1739160" y="1811520"/>
                <a:ext cx="654120" cy="62280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1739160" y="2196360"/>
                <a:ext cx="65412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10800000">
                <a:off x="2066760" y="1814040"/>
                <a:ext cx="198000" cy="62316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10800000">
                <a:off x="1739880" y="1811520"/>
                <a:ext cx="524880" cy="38196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0800000">
                <a:off x="1868400" y="1811520"/>
                <a:ext cx="198000" cy="62316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0800000">
                <a:off x="1865160" y="1808640"/>
                <a:ext cx="524880" cy="38484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1938960" y="1957680"/>
              <a:ext cx="245160" cy="244800"/>
              <a:chOff x="1938960" y="1957680"/>
              <a:chExt cx="245160" cy="244800"/>
            </a:xfrm>
          </p:grpSpPr>
          <p:sp>
            <p:nvSpPr>
              <p:cNvPr id="226" name=""/>
              <p:cNvSpPr/>
              <p:nvPr/>
            </p:nvSpPr>
            <p:spPr>
              <a:xfrm>
                <a:off x="1938960" y="1958760"/>
                <a:ext cx="245160" cy="243360"/>
              </a:xfrm>
              <a:prstGeom prst="pentagon">
                <a:avLst/>
              </a:prstGeom>
              <a:noFill/>
              <a:ln w="936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938960" y="1958760"/>
                <a:ext cx="245160" cy="24264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938960" y="2051640"/>
                <a:ext cx="24516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987200" y="1957680"/>
                <a:ext cx="74160" cy="2430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987200" y="2052720"/>
                <a:ext cx="196920" cy="14868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061360" y="1958400"/>
                <a:ext cx="74160" cy="2430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940040" y="2052720"/>
                <a:ext cx="196920" cy="14976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3" name=""/>
          <p:cNvGrpSpPr/>
          <p:nvPr/>
        </p:nvGrpSpPr>
        <p:grpSpPr>
          <a:xfrm>
            <a:off x="4970520" y="2205000"/>
            <a:ext cx="3457440" cy="4105440"/>
            <a:chOff x="4970520" y="2205000"/>
            <a:chExt cx="3457440" cy="4105440"/>
          </a:xfrm>
        </p:grpSpPr>
        <p:pic>
          <p:nvPicPr>
            <p:cNvPr id="234" name="" descr=""/>
            <p:cNvPicPr/>
            <p:nvPr/>
          </p:nvPicPr>
          <p:blipFill>
            <a:blip r:embed="rId2"/>
            <a:srcRect l="-2570" t="0" r="-1321" b="74"/>
            <a:stretch/>
          </p:blipFill>
          <p:spPr>
            <a:xfrm>
              <a:off x="4970520" y="2205000"/>
              <a:ext cx="345744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5076720" y="2205000"/>
              <a:ext cx="3311640" cy="4105440"/>
            </a:xfrm>
            <a:prstGeom prst="rect">
              <a:avLst/>
            </a:prstGeom>
            <a:noFill/>
            <a:ln w="41400">
              <a:solidFill>
                <a:srgbClr val="b0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4280" y="5665680"/>
              <a:ext cx="2288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Иоганн Вольфганг Гёте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1749 г. – 1832 г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96800" y="2980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Тысячи путей ведут к заблуждению, к истине – только один»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Жан Жак Русс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125000"/>
            <a:ext cx="791064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нтаграм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ропорциональна и, значит, красива. Не случайно и сегодня пятиконечная звезда реет на флагах едва ли не половины стран ми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51920" y="836640"/>
            <a:ext cx="8655480" cy="286560"/>
            <a:chOff x="151920" y="836640"/>
            <a:chExt cx="8655480" cy="286560"/>
          </a:xfrm>
        </p:grpSpPr>
        <p:sp>
          <p:nvSpPr>
            <p:cNvPr id="240" name=""/>
            <p:cNvSpPr/>
            <p:nvPr/>
          </p:nvSpPr>
          <p:spPr>
            <a:xfrm flipH="1" rot="5400000">
              <a:off x="4413960" y="-325692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6200000">
              <a:off x="4361760" y="-337248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68360" y="1825560"/>
            <a:ext cx="8163000" cy="1367640"/>
            <a:chOff x="468360" y="1825560"/>
            <a:chExt cx="8163000" cy="1367640"/>
          </a:xfrm>
        </p:grpSpPr>
        <p:grpSp>
          <p:nvGrpSpPr>
            <p:cNvPr id="243" name=""/>
            <p:cNvGrpSpPr/>
            <p:nvPr/>
          </p:nvGrpSpPr>
          <p:grpSpPr>
            <a:xfrm>
              <a:off x="468360" y="1849320"/>
              <a:ext cx="1619280" cy="1337400"/>
              <a:chOff x="468360" y="1849320"/>
              <a:chExt cx="1619280" cy="1337400"/>
            </a:xfrm>
          </p:grpSpPr>
          <p:pic>
            <p:nvPicPr>
              <p:cNvPr id="24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49320"/>
                <a:ext cx="1619280" cy="107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" name=""/>
              <p:cNvSpPr/>
              <p:nvPr/>
            </p:nvSpPr>
            <p:spPr>
              <a:xfrm>
                <a:off x="572040" y="2879640"/>
                <a:ext cx="1335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Буркина Фасо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2617920" y="1849320"/>
              <a:ext cx="1619280" cy="1343880"/>
              <a:chOff x="2617920" y="1849320"/>
              <a:chExt cx="1619280" cy="1343880"/>
            </a:xfrm>
          </p:grpSpPr>
          <p:pic>
            <p:nvPicPr>
              <p:cNvPr id="24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617920" y="1849320"/>
                <a:ext cx="1619280" cy="107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>
                <a:off x="2924640" y="2886120"/>
                <a:ext cx="107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Венесуэл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4805280" y="1871640"/>
              <a:ext cx="1618920" cy="1320120"/>
              <a:chOff x="4805280" y="1871640"/>
              <a:chExt cx="1618920" cy="1320120"/>
            </a:xfrm>
          </p:grpSpPr>
          <p:pic>
            <p:nvPicPr>
              <p:cNvPr id="25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805280" y="1871640"/>
                <a:ext cx="161892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4919760" y="2884680"/>
                <a:ext cx="141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Гвинея - Бисау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7012080" y="1825560"/>
              <a:ext cx="1619280" cy="1324440"/>
              <a:chOff x="7012080" y="1825560"/>
              <a:chExt cx="1619280" cy="1324440"/>
            </a:xfrm>
          </p:grpSpPr>
          <p:pic>
            <p:nvPicPr>
              <p:cNvPr id="2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012080" y="1825560"/>
                <a:ext cx="1619280" cy="107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>
                <a:off x="7540200" y="2842920"/>
                <a:ext cx="573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Ген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5" name=""/>
          <p:cNvGrpSpPr/>
          <p:nvPr/>
        </p:nvGrpSpPr>
        <p:grpSpPr>
          <a:xfrm>
            <a:off x="468360" y="3456000"/>
            <a:ext cx="8200800" cy="1350000"/>
            <a:chOff x="468360" y="3456000"/>
            <a:chExt cx="8200800" cy="1350000"/>
          </a:xfrm>
        </p:grpSpPr>
        <p:grpSp>
          <p:nvGrpSpPr>
            <p:cNvPr id="256" name=""/>
            <p:cNvGrpSpPr/>
            <p:nvPr/>
          </p:nvGrpSpPr>
          <p:grpSpPr>
            <a:xfrm>
              <a:off x="468360" y="3456000"/>
              <a:ext cx="1619280" cy="1317960"/>
              <a:chOff x="468360" y="3456000"/>
              <a:chExt cx="1619280" cy="1317960"/>
            </a:xfrm>
          </p:grpSpPr>
          <p:pic>
            <p:nvPicPr>
              <p:cNvPr id="25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68360" y="3456000"/>
                <a:ext cx="1619280" cy="107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>
                <a:off x="846000" y="4466880"/>
                <a:ext cx="89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Вьетнам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612880" y="3460680"/>
              <a:ext cx="1619280" cy="1337400"/>
              <a:chOff x="2612880" y="3460680"/>
              <a:chExt cx="1619280" cy="1337400"/>
            </a:xfrm>
          </p:grpSpPr>
          <p:pic>
            <p:nvPicPr>
              <p:cNvPr id="26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612880" y="346068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1" name=""/>
              <p:cNvSpPr/>
              <p:nvPr/>
            </p:nvSpPr>
            <p:spPr>
              <a:xfrm>
                <a:off x="2937960" y="4491000"/>
                <a:ext cx="95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Гондурас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4826160" y="3479760"/>
              <a:ext cx="1618920" cy="1326240"/>
              <a:chOff x="4826160" y="3479760"/>
              <a:chExt cx="1618920" cy="1326240"/>
            </a:xfrm>
          </p:grpSpPr>
          <p:pic>
            <p:nvPicPr>
              <p:cNvPr id="2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826160" y="3479760"/>
                <a:ext cx="161892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"/>
              <p:cNvSpPr/>
              <p:nvPr/>
            </p:nvSpPr>
            <p:spPr>
              <a:xfrm>
                <a:off x="5203800" y="4498920"/>
                <a:ext cx="875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Гренад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7050240" y="3465360"/>
              <a:ext cx="1618920" cy="1305360"/>
              <a:chOff x="7050240" y="3465360"/>
              <a:chExt cx="1618920" cy="1305360"/>
            </a:xfrm>
          </p:grpSpPr>
          <p:pic>
            <p:nvPicPr>
              <p:cNvPr id="26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050240" y="3465360"/>
                <a:ext cx="1618920" cy="107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" name=""/>
              <p:cNvSpPr/>
              <p:nvPr/>
            </p:nvSpPr>
            <p:spPr>
              <a:xfrm>
                <a:off x="7411320" y="4463640"/>
                <a:ext cx="89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Джибути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468360" y="5072040"/>
            <a:ext cx="8211960" cy="1400760"/>
            <a:chOff x="468360" y="5072040"/>
            <a:chExt cx="8211960" cy="1400760"/>
          </a:xfrm>
        </p:grpSpPr>
        <p:grpSp>
          <p:nvGrpSpPr>
            <p:cNvPr id="269" name=""/>
            <p:cNvGrpSpPr/>
            <p:nvPr/>
          </p:nvGrpSpPr>
          <p:grpSpPr>
            <a:xfrm>
              <a:off x="468360" y="5086440"/>
              <a:ext cx="1619280" cy="1331280"/>
              <a:chOff x="468360" y="5086440"/>
              <a:chExt cx="1619280" cy="1331280"/>
            </a:xfrm>
          </p:grpSpPr>
          <p:pic>
            <p:nvPicPr>
              <p:cNvPr id="27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68360" y="50864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757440" y="6110640"/>
                <a:ext cx="99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Доминик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2631960" y="5086440"/>
              <a:ext cx="1619280" cy="1331280"/>
              <a:chOff x="2631960" y="5086440"/>
              <a:chExt cx="1619280" cy="1331280"/>
            </a:xfrm>
          </p:grpSpPr>
          <p:pic>
            <p:nvPicPr>
              <p:cNvPr id="2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631960" y="50864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"/>
              <p:cNvSpPr/>
              <p:nvPr/>
            </p:nvSpPr>
            <p:spPr>
              <a:xfrm>
                <a:off x="2935080" y="6110640"/>
                <a:ext cx="1006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Зимбабв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4819680" y="5086440"/>
              <a:ext cx="1619280" cy="1331280"/>
              <a:chOff x="4819680" y="5086440"/>
              <a:chExt cx="1619280" cy="1331280"/>
            </a:xfrm>
          </p:grpSpPr>
          <p:pic>
            <p:nvPicPr>
              <p:cNvPr id="27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819680" y="50864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"/>
              <p:cNvSpPr/>
              <p:nvPr/>
            </p:nvSpPr>
            <p:spPr>
              <a:xfrm>
                <a:off x="5325840" y="6110640"/>
                <a:ext cx="58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Ирак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7075440" y="5072040"/>
              <a:ext cx="1604880" cy="1400760"/>
              <a:chOff x="7075440" y="5072040"/>
              <a:chExt cx="1604880" cy="1400760"/>
            </a:xfrm>
          </p:grpSpPr>
          <p:pic>
            <p:nvPicPr>
              <p:cNvPr id="27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075440" y="5072040"/>
                <a:ext cx="16048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"/>
              <p:cNvSpPr/>
              <p:nvPr/>
            </p:nvSpPr>
            <p:spPr>
              <a:xfrm>
                <a:off x="7508160" y="6165720"/>
                <a:ext cx="727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Йемен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wedg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193320" y="847800"/>
            <a:ext cx="8655480" cy="286560"/>
            <a:chOff x="193320" y="847800"/>
            <a:chExt cx="8655480" cy="286560"/>
          </a:xfrm>
        </p:grpSpPr>
        <p:sp>
          <p:nvSpPr>
            <p:cNvPr id="282" name=""/>
            <p:cNvSpPr/>
            <p:nvPr/>
          </p:nvSpPr>
          <p:spPr>
            <a:xfrm flipH="1" rot="5400000">
              <a:off x="4455360" y="-324576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6200000">
              <a:off x="4403160" y="-336132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Мудрее всего – время, ибо оно раскрывает всё»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Фал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68360" y="1336680"/>
            <a:ext cx="8352000" cy="1374120"/>
            <a:chOff x="468360" y="1336680"/>
            <a:chExt cx="8352000" cy="1374120"/>
          </a:xfrm>
        </p:grpSpPr>
        <p:grpSp>
          <p:nvGrpSpPr>
            <p:cNvPr id="286" name=""/>
            <p:cNvGrpSpPr/>
            <p:nvPr/>
          </p:nvGrpSpPr>
          <p:grpSpPr>
            <a:xfrm>
              <a:off x="468360" y="1336680"/>
              <a:ext cx="1618920" cy="1343520"/>
              <a:chOff x="468360" y="1336680"/>
              <a:chExt cx="1618920" cy="1343520"/>
            </a:xfrm>
          </p:grpSpPr>
          <p:pic>
            <p:nvPicPr>
              <p:cNvPr id="28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336680"/>
                <a:ext cx="161892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"/>
              <p:cNvSpPr/>
              <p:nvPr/>
            </p:nvSpPr>
            <p:spPr>
              <a:xfrm>
                <a:off x="788760" y="2373120"/>
                <a:ext cx="89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Камерун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2593800" y="1355760"/>
              <a:ext cx="1619280" cy="1343520"/>
              <a:chOff x="2593800" y="1355760"/>
              <a:chExt cx="1619280" cy="1343520"/>
            </a:xfrm>
          </p:grpSpPr>
          <p:pic>
            <p:nvPicPr>
              <p:cNvPr id="29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593800" y="135576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" name=""/>
              <p:cNvSpPr/>
              <p:nvPr/>
            </p:nvSpPr>
            <p:spPr>
              <a:xfrm>
                <a:off x="3009600" y="2392200"/>
                <a:ext cx="663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Кита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4785840" y="1336680"/>
              <a:ext cx="1782360" cy="1348200"/>
              <a:chOff x="4785840" y="1336680"/>
              <a:chExt cx="1782360" cy="1348200"/>
            </a:xfrm>
          </p:grpSpPr>
          <p:sp>
            <p:nvSpPr>
              <p:cNvPr id="293" name=""/>
              <p:cNvSpPr/>
              <p:nvPr/>
            </p:nvSpPr>
            <p:spPr>
              <a:xfrm>
                <a:off x="4785840" y="2377800"/>
                <a:ext cx="178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Коморские остров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859640" y="1336680"/>
                <a:ext cx="1619280" cy="1076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5" name=""/>
            <p:cNvGrpSpPr/>
            <p:nvPr/>
          </p:nvGrpSpPr>
          <p:grpSpPr>
            <a:xfrm>
              <a:off x="6932880" y="1450800"/>
              <a:ext cx="1887480" cy="1260000"/>
              <a:chOff x="6932880" y="1450800"/>
              <a:chExt cx="1887480" cy="1260000"/>
            </a:xfrm>
          </p:grpSpPr>
          <p:pic>
            <p:nvPicPr>
              <p:cNvPr id="29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067520" y="1450800"/>
                <a:ext cx="1619280" cy="80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/>
              <p:nvPr/>
            </p:nvSpPr>
            <p:spPr>
              <a:xfrm>
                <a:off x="6932880" y="2190600"/>
                <a:ext cx="188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Корейская народна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Демокр-ая р - к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449280" y="2867040"/>
            <a:ext cx="8263080" cy="1345320"/>
            <a:chOff x="449280" y="2867040"/>
            <a:chExt cx="8263080" cy="1345320"/>
          </a:xfrm>
        </p:grpSpPr>
        <p:grpSp>
          <p:nvGrpSpPr>
            <p:cNvPr id="299" name=""/>
            <p:cNvGrpSpPr/>
            <p:nvPr/>
          </p:nvGrpSpPr>
          <p:grpSpPr>
            <a:xfrm>
              <a:off x="449280" y="2959200"/>
              <a:ext cx="1619280" cy="1095840"/>
              <a:chOff x="449280" y="2959200"/>
              <a:chExt cx="1619280" cy="1095840"/>
            </a:xfrm>
          </p:grpSpPr>
          <p:pic>
            <p:nvPicPr>
              <p:cNvPr id="30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49280" y="2959200"/>
                <a:ext cx="1619280" cy="79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"/>
              <p:cNvSpPr/>
              <p:nvPr/>
            </p:nvSpPr>
            <p:spPr>
              <a:xfrm>
                <a:off x="954360" y="3747960"/>
                <a:ext cx="57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Куб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2612880" y="2867040"/>
              <a:ext cx="1619280" cy="1330920"/>
              <a:chOff x="2612880" y="2867040"/>
              <a:chExt cx="1619280" cy="1330920"/>
            </a:xfrm>
          </p:grpSpPr>
          <p:pic>
            <p:nvPicPr>
              <p:cNvPr id="30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612880" y="28670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"/>
              <p:cNvSpPr/>
              <p:nvPr/>
            </p:nvSpPr>
            <p:spPr>
              <a:xfrm>
                <a:off x="2975400" y="3890880"/>
                <a:ext cx="89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Либери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4878360" y="2867040"/>
              <a:ext cx="1619280" cy="1345320"/>
              <a:chOff x="4878360" y="2867040"/>
              <a:chExt cx="1619280" cy="1345320"/>
            </a:xfrm>
          </p:grpSpPr>
          <p:pic>
            <p:nvPicPr>
              <p:cNvPr id="3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878360" y="28670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>
                <a:off x="5095440" y="3905280"/>
                <a:ext cx="1195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Мавритани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093080" y="2867040"/>
              <a:ext cx="1619280" cy="1330920"/>
              <a:chOff x="7093080" y="2867040"/>
              <a:chExt cx="1619280" cy="1330920"/>
            </a:xfrm>
          </p:grpSpPr>
          <p:pic>
            <p:nvPicPr>
              <p:cNvPr id="30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093080" y="28670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>
                <a:off x="7310160" y="3890880"/>
                <a:ext cx="117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Микронези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1" name=""/>
          <p:cNvGrpSpPr/>
          <p:nvPr/>
        </p:nvGrpSpPr>
        <p:grpSpPr>
          <a:xfrm>
            <a:off x="482760" y="4308480"/>
            <a:ext cx="8438040" cy="1402560"/>
            <a:chOff x="482760" y="4308480"/>
            <a:chExt cx="8438040" cy="1402560"/>
          </a:xfrm>
        </p:grpSpPr>
        <p:grpSp>
          <p:nvGrpSpPr>
            <p:cNvPr id="312" name=""/>
            <p:cNvGrpSpPr/>
            <p:nvPr/>
          </p:nvGrpSpPr>
          <p:grpSpPr>
            <a:xfrm>
              <a:off x="482760" y="4308480"/>
              <a:ext cx="1618920" cy="1364400"/>
              <a:chOff x="482760" y="4308480"/>
              <a:chExt cx="1618920" cy="1364400"/>
            </a:xfrm>
          </p:grpSpPr>
          <p:pic>
            <p:nvPicPr>
              <p:cNvPr id="31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760" y="4308480"/>
                <a:ext cx="161892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>
                <a:off x="790920" y="5365800"/>
                <a:ext cx="1009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Мозамбик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612880" y="4346640"/>
              <a:ext cx="1643760" cy="1316520"/>
              <a:chOff x="2612880" y="4346640"/>
              <a:chExt cx="1643760" cy="1316520"/>
            </a:xfrm>
          </p:grpSpPr>
          <p:pic>
            <p:nvPicPr>
              <p:cNvPr id="3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612880" y="43466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7" name=""/>
              <p:cNvSpPr/>
              <p:nvPr/>
            </p:nvSpPr>
            <p:spPr>
              <a:xfrm>
                <a:off x="2701440" y="5356080"/>
                <a:ext cx="1555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Новая Зеланди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4878360" y="4361040"/>
              <a:ext cx="1619280" cy="1350000"/>
              <a:chOff x="4878360" y="4361040"/>
              <a:chExt cx="1619280" cy="1350000"/>
            </a:xfrm>
          </p:grpSpPr>
          <p:pic>
            <p:nvPicPr>
              <p:cNvPr id="319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878360" y="4361040"/>
                <a:ext cx="1619280" cy="107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>
                <a:off x="5291280" y="5403960"/>
                <a:ext cx="95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Пакистан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6877800" y="4379760"/>
              <a:ext cx="2043000" cy="1329480"/>
              <a:chOff x="6877800" y="4379760"/>
              <a:chExt cx="2043000" cy="1329480"/>
            </a:xfrm>
          </p:grpSpPr>
          <p:pic>
            <p:nvPicPr>
              <p:cNvPr id="32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12160" y="437976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"/>
              <p:cNvSpPr/>
              <p:nvPr/>
            </p:nvSpPr>
            <p:spPr>
              <a:xfrm>
                <a:off x="6877800" y="5402160"/>
                <a:ext cx="20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Папуа – Новая Гвине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4" name=""/>
          <p:cNvSpPr/>
          <p:nvPr/>
        </p:nvSpPr>
        <p:spPr>
          <a:xfrm>
            <a:off x="1008000" y="5734080"/>
            <a:ext cx="7067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оль необычайно пропорциональное строение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нтаграмм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красо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ё внутреннего математического содерж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являются основой её внешней красот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7705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Ни тридцать лет ни тридцать столетий не оказывают                    никакого влияния на ясность или на красоту геометрических тел»</a:t>
            </a:r>
            <a:br>
              <a:rPr sz="18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эррол Л. (Додгсон)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8160" y="1270080"/>
            <a:ext cx="3745080" cy="266364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1116000" y="4149720"/>
            <a:ext cx="2881440" cy="20224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42920" y="1412640"/>
            <a:ext cx="3961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ифский мужской монастырь – единственный в Татарии сохранившийся монастырский комплекс, построенный в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еке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лекс имеет форму пяти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ентагон в США . Комплекс имеет форму правильного пятиугольника, сотканного из </a:t>
            </a:r>
            <a:r>
              <a:rPr b="0" lang="ru-RU" sz="21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золотых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порц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30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51960" y="333360"/>
            <a:ext cx="82407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Если бы мне пришлось начать вновь своё обучение  то я последовал бы совету Платона и принялся бы сперва за математику».</a:t>
            </a:r>
            <a:br>
              <a:rPr sz="18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алилей 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643280" y="1412640"/>
            <a:ext cx="4176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 Платону: пять правильных  многогранников – пять стихий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декаэд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лицетворяет вселенн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атон считал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декаэд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ым «правильным» из всех правильных многогранников,     т. к. его грани – правильные пятиугольники – сотканы из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олотых пропорц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754200" y="1211400"/>
            <a:ext cx="3598560" cy="2693880"/>
          </a:xfrm>
          <a:prstGeom prst="rect">
            <a:avLst/>
          </a:prstGeom>
          <a:ln w="12600">
            <a:solidFill>
              <a:srgbClr val="b97247"/>
            </a:solidFill>
            <a:miter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1147680" y="4038480"/>
            <a:ext cx="2735280" cy="252252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grpSp>
        <p:nvGrpSpPr>
          <p:cNvPr id="336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37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3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8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1080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…Мир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Во всей его живой архитектуре –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Орган поющий, море труб, клавир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Не умирающий ни в радости, ни в буре.»                        Н. Заболоц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11080" y="1197000"/>
            <a:ext cx="78645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исталлы пирита имеют форму  додекаэдра – поверхности, составленной из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 правильных пятиугольник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показывают раскопки в Италии, пирит был любимой игрушкой этрусских детей во времена Пифагора.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rcRect l="0" t="0" r="0" b="60"/>
          <a:stretch/>
        </p:blipFill>
        <p:spPr>
          <a:xfrm>
            <a:off x="5565600" y="2968560"/>
            <a:ext cx="3135600" cy="280512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289080" y="3006720"/>
            <a:ext cx="2849400" cy="29811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3371760" y="2994120"/>
            <a:ext cx="1932120" cy="19317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3353400" y="5157720"/>
            <a:ext cx="19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ристаллы пири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46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2687760" y="41904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6320" y="5567400"/>
            <a:ext cx="238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исунок кристалла пири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97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Мышление начинается с удивления»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писывается Аристот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rcRect l="0" t="0" r="52164" b="0"/>
          <a:stretch/>
        </p:blipFill>
        <p:spPr>
          <a:xfrm>
            <a:off x="468360" y="1557360"/>
            <a:ext cx="2679480" cy="345600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796000" y="1600200"/>
            <a:ext cx="289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онардо да Винчи любил мастерить каркасы правильных тел и преподносить их в дар знатным особам, возможно пытаясь таким образом приобщить сильных мира сего к философским размышлениям о красоте вечных ист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3"/>
          <a:srcRect l="54304" t="0" r="0" b="0"/>
          <a:stretch/>
        </p:blipFill>
        <p:spPr>
          <a:xfrm>
            <a:off x="3203640" y="1557360"/>
            <a:ext cx="2484360" cy="345600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  <p:sp>
        <p:nvSpPr>
          <p:cNvPr id="354" name=""/>
          <p:cNvSpPr/>
          <p:nvPr/>
        </p:nvSpPr>
        <p:spPr>
          <a:xfrm>
            <a:off x="395280" y="5200200"/>
            <a:ext cx="573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унки Леонардо да Вин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книги Луки Пачол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Божественная пропорц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56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9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4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Да, путь познания не гладок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Но знаем мы со школьных лет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Загадок больше, чем разгадок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И поискам предела н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тьяничева 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1547640" y="1484280"/>
            <a:ext cx="5616720" cy="351936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84280" y="5046840"/>
            <a:ext cx="7859520" cy="15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г – отец «оберегает» вселенную, имеющую форму додекаэд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граней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додекаэдр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и 12 апостолов  Христа не просто совпадение - в картине Сальвадора Дали «Тайная вечеря»  заключён глубокий религиозный смыс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62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3200" y="120348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ател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чения о золотом сеч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Понят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олотого сеч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лотое сечение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 архитект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лотое сечение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в живописи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лотое сечение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в живых организмах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Пента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й «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правильн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многогран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лотое сечение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вокруг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исок используемой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74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1719360" y="5497560"/>
            <a:ext cx="5889600" cy="94680"/>
            <a:chOff x="1719360" y="5497560"/>
            <a:chExt cx="5889600" cy="94680"/>
          </a:xfrm>
        </p:grpSpPr>
        <p:sp>
          <p:nvSpPr>
            <p:cNvPr id="77" name=""/>
            <p:cNvSpPr/>
            <p:nvPr/>
          </p:nvSpPr>
          <p:spPr>
            <a:xfrm>
              <a:off x="171936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4476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15900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8152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600440" y="5506920"/>
              <a:ext cx="8604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3556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64200" y="549756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94640" y="549756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523280" y="549756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44480" y="27432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Кто любит учиться - никогда не проводит время в праздности»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онтескье 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800280" y="1436760"/>
            <a:ext cx="1944360" cy="33112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3433680" y="1455840"/>
            <a:ext cx="2028960" cy="33112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367" name=""/>
          <p:cNvSpPr/>
          <p:nvPr/>
        </p:nvSpPr>
        <p:spPr>
          <a:xfrm>
            <a:off x="7740720" y="2427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232680" y="1265400"/>
            <a:ext cx="2072880" cy="2854080"/>
            <a:chOff x="6232680" y="1265400"/>
            <a:chExt cx="2072880" cy="2854080"/>
          </a:xfrm>
        </p:grpSpPr>
        <p:sp>
          <p:nvSpPr>
            <p:cNvPr id="370" name=""/>
            <p:cNvSpPr/>
            <p:nvPr/>
          </p:nvSpPr>
          <p:spPr>
            <a:xfrm>
              <a:off x="6483240" y="1519200"/>
              <a:ext cx="1247400" cy="18576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Золот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ямо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угольни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16200000">
              <a:off x="6953040" y="2907000"/>
              <a:ext cx="309600" cy="1249200"/>
            </a:xfrm>
            <a:custGeom>
              <a:avLst/>
              <a:gdLst>
                <a:gd name="textAreaLeft" fmla="*/ 198000 w 309600"/>
                <a:gd name="textAreaRight" fmla="*/ 309960 w 309600"/>
                <a:gd name="textAreaTop" fmla="*/ 32400 h 1249200"/>
                <a:gd name="textAreaBottom" fmla="*/ 1216800 h 124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666"/>
                  </a:lnTo>
                  <a:cubicBezTo>
                    <a:pt x="10800" y="10566"/>
                    <a:pt x="5400" y="11466"/>
                    <a:pt x="0" y="11466"/>
                  </a:cubicBezTo>
                  <a:cubicBezTo>
                    <a:pt x="5400" y="11466"/>
                    <a:pt x="10800" y="12366"/>
                    <a:pt x="10800" y="1326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731000" y="1519200"/>
              <a:ext cx="312480" cy="1857600"/>
            </a:xfrm>
            <a:custGeom>
              <a:avLst/>
              <a:gdLst>
                <a:gd name="textAreaLeft" fmla="*/ 0 w 312480"/>
                <a:gd name="textAreaRight" fmla="*/ 112680 w 312480"/>
                <a:gd name="textAreaTop" fmla="*/ 48240 h 1857600"/>
                <a:gd name="textAreaBottom" fmla="*/ 1809360 h 18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993080" y="2293920"/>
              <a:ext cx="31248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676920" y="3627360"/>
              <a:ext cx="185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232680" y="3270240"/>
              <a:ext cx="46332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254640" y="1276560"/>
              <a:ext cx="4615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574040" y="1265400"/>
              <a:ext cx="46800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680240" y="3324240"/>
              <a:ext cx="46332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9" name="" descr=""/>
            <p:cNvPicPr/>
            <p:nvPr/>
          </p:nvPicPr>
          <p:blipFill>
            <a:blip r:embed="rId4"/>
            <a:stretch/>
          </p:blipFill>
          <p:spPr>
            <a:xfrm>
              <a:off x="6875280" y="3691080"/>
              <a:ext cx="456840" cy="4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" name=""/>
          <p:cNvSpPr/>
          <p:nvPr/>
        </p:nvSpPr>
        <p:spPr>
          <a:xfrm>
            <a:off x="0" y="3068640"/>
            <a:ext cx="914400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5"/>
          <a:stretch/>
        </p:blipFill>
        <p:spPr>
          <a:xfrm>
            <a:off x="6588000" y="4254480"/>
            <a:ext cx="1224000" cy="79704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826920" y="535680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ие современные изделия с прямоугольными гран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еют форму граней, близкую к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золотому сечению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84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 В задачах, которые ставит перед нами жизнь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экзаменатором является сама природа»</a:t>
            </a:r>
            <a:br>
              <a:rPr sz="18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йер 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42920" y="4868640"/>
            <a:ext cx="417204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инии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золотого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сечения «вырезают» в кадре монитора области, связанные с ощущениями порядка, академической суховатой  продуманности и рассудоч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1042920" y="1484280"/>
            <a:ext cx="3048120" cy="21970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5292720" y="1557360"/>
            <a:ext cx="2610000" cy="169560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1017720" y="3938760"/>
            <a:ext cx="3073320" cy="230652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391" name=""/>
          <p:cNvSpPr/>
          <p:nvPr/>
        </p:nvSpPr>
        <p:spPr>
          <a:xfrm>
            <a:off x="5003640" y="3370680"/>
            <a:ext cx="324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ополнительные опорные лин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линии золотого сечен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57680" y="4006440"/>
            <a:ext cx="3826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казан вариант для монитора с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редним размером экра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600 на 800 пикселей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94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исок используемой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.В. Волошин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ифагор.- М: «Просвещение» 199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.И. Глейзе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История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математ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школ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I-VII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. Пособие для учителей.- М: «Просвещение» 1982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иман М.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Школьникам о математике и математиках.                М: «Просвещение» 198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ww photoline.ru/tcomp 1.ht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ttp//www.nips.riss-telecom.ru/poly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99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0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768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4" dur="768" fill="hold"/>
                                        <p:tgtEl>
                                          <p:spTgt spid="3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6" dur="768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8" dur="768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145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овольно почестей Александрам! Да здравствуют Архимеды!»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н-Симон 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920" y="1260360"/>
            <a:ext cx="4175280" cy="49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порции, т.е. равенства отношений изучались пифагорейц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вдокс развил учение о пропорциях–одно из величайших достижений греческой матема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ин «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золото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чение» ввёл Леонардо да Вин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682720" y="1235160"/>
            <a:ext cx="1668600" cy="208764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684360" y="2459160"/>
            <a:ext cx="1511280" cy="21016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2678040" y="4202280"/>
            <a:ext cx="1720800" cy="194436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314280" y="460260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Евдокс (408 – ок.355 г.г.до н.э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93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586240" y="3394800"/>
            <a:ext cx="186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ифагор (580-500 г.г.до н.э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99760" y="6236640"/>
            <a:ext cx="225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Леонардо да Винчи (1452-1519 г.г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1440" y="404280"/>
            <a:ext cx="7991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Сравнение математических фигур и величин служи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материалом для игр и обучения мудрости»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есталоцци И.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0" t="0" r="47276" b="37320"/>
          <a:stretch/>
        </p:blipFill>
        <p:spPr>
          <a:xfrm>
            <a:off x="449280" y="4194000"/>
            <a:ext cx="4680000" cy="17672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6360" y="1628640"/>
            <a:ext cx="3745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ение золотого сечения: целое относится к его большей части так же, как большая часть относится к меньшей ч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езок АВ так относится к его большей ча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ак эта большая ча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носится к его меньшей ча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аче говоря, точк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елит отрезо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«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золото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порц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rcRect l="0" t="0" r="0" b="-201"/>
          <a:stretch/>
        </p:blipFill>
        <p:spPr>
          <a:xfrm>
            <a:off x="1122480" y="1096920"/>
            <a:ext cx="2879640" cy="2797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00000" y="1265400"/>
            <a:ext cx="790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03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932360" y="1412640"/>
            <a:ext cx="3811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ть  предположение, что Пифагор понятие золотого сечения позаимствовал у египтян и вавилонян. И, действительно пропорции пирамиды Хеопса, барельефы предметов быта и украшений из гробницы Тутанхамона свидетельствуют, что египетские мастера пользовались соотношение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олотого сеч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и их созд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36640" y="3994200"/>
            <a:ext cx="3672000" cy="231120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grpSp>
        <p:nvGrpSpPr>
          <p:cNvPr id="107" name=""/>
          <p:cNvGrpSpPr/>
          <p:nvPr/>
        </p:nvGrpSpPr>
        <p:grpSpPr>
          <a:xfrm>
            <a:off x="926280" y="1182600"/>
            <a:ext cx="3381120" cy="2723760"/>
            <a:chOff x="926280" y="1182600"/>
            <a:chExt cx="3381120" cy="2723760"/>
          </a:xfrm>
        </p:grpSpPr>
        <p:pic>
          <p:nvPicPr>
            <p:cNvPr id="108" name="" descr=""/>
            <p:cNvPicPr/>
            <p:nvPr/>
          </p:nvPicPr>
          <p:blipFill>
            <a:blip r:embed="rId3"/>
            <a:stretch/>
          </p:blipFill>
          <p:spPr>
            <a:xfrm>
              <a:off x="998280" y="1182600"/>
              <a:ext cx="3240360" cy="2430720"/>
            </a:xfrm>
            <a:prstGeom prst="rect">
              <a:avLst/>
            </a:prstGeom>
            <a:ln w="9360">
              <a:solidFill>
                <a:srgbClr val="cc6600"/>
              </a:solidFill>
              <a:miter/>
            </a:ln>
          </p:spPr>
        </p:pic>
        <p:sp>
          <p:nvSpPr>
            <p:cNvPr id="109" name=""/>
            <p:cNvSpPr/>
            <p:nvPr/>
          </p:nvSpPr>
          <p:spPr>
            <a:xfrm>
              <a:off x="926280" y="3629880"/>
              <a:ext cx="3381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финкс, охраняющий гробницу Тутанхамо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808280" y="6317640"/>
            <a:ext cx="146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ирамида Хеоп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Есть в математике нечто вызывающее восторг»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Хаусдорф Ф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13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4596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Гёте удачно назвал благородный собор «окаменелой музыкой», …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Юнг Д.</a:t>
            </a: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831960" y="1168560"/>
            <a:ext cx="3189240" cy="475272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640" y="599400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рковь Покрова Богородицы на Нерли 1165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ctr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Простая» красота пропорций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золотого сечения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776840" y="1211400"/>
            <a:ext cx="3659040" cy="46796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grpSp>
        <p:nvGrpSpPr>
          <p:cNvPr id="119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20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3200" y="189000"/>
            <a:ext cx="791208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…, но, быть может, ещё лучше было бы назвать такой собор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«окаменелой математикой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нг Д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15640" y="4998960"/>
            <a:ext cx="713916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порции Покровского Собора на Красной площади в Москве определяются  восемью членами ряда золотого сечени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ногие члены ряда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золотого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сечения повторяются в затейливых элементах храма многократ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61800" y="1306440"/>
            <a:ext cx="4824720" cy="34750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5295960" y="1216080"/>
            <a:ext cx="3483000" cy="3816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2400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2917800" y="6087960"/>
            <a:ext cx="4044960" cy="32868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30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7155000" y="5238720"/>
            <a:ext cx="1079280" cy="3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34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39560" y="1523880"/>
            <a:ext cx="5905800" cy="370224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3"/>
          <a:srcRect l="0" t="0" r="60610" b="0"/>
          <a:stretch/>
        </p:blipFill>
        <p:spPr>
          <a:xfrm>
            <a:off x="6472080" y="1336680"/>
            <a:ext cx="2411640" cy="39304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84120" y="5379840"/>
            <a:ext cx="8229600" cy="96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ндро Ботичелли  «Рождение Венеры» (около 1485 г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порции Венеры выполнены 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олотом сечен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754200" y="2026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Поистине живопись – наука и законная дочь природы…»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еонардо да Вин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06400" y="259920"/>
            <a:ext cx="81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Высшее назначение математики…состоит в том, чтобы находить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рытый порядок в хаосе, который нас окружает».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инер 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640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Человеку, сведущему в геометрии и работающему с нею, становятся доступны… все те высшие наслаждения, которые называются наслаждениями математического порядка… Я думаю, что никогда до настоящего времени мы не жили в такой геометрический период. Стоит поразмыслить о прошлом, вспомнить то, что было ранее, и мы будем ошеломлены, видя, что окружающий нас мир – это мир геометрии, чистой, истинной, безупречной в наших глазах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ё вокруг – геометр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.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 Корбюз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порции идеальной фигуры человека, по Корбюзье, должны подчиняться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золотом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еч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857160" y="1268280"/>
            <a:ext cx="2492640" cy="468000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749880" y="59493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улор  Ле Корбюз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45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4T18:19:36Z</dcterms:created>
  <dc:creator>User</dc:creator>
  <dc:description/>
  <dc:language>en-US</dc:language>
  <cp:lastModifiedBy>Name</cp:lastModifiedBy>
  <dcterms:modified xsi:type="dcterms:W3CDTF">2010-09-26T09:23:12Z</dcterms:modified>
  <cp:revision>21</cp:revision>
  <dc:subject/>
  <dc:title>Пропорции золотого сеч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0d000000000001024140</vt:lpwstr>
  </property>
</Properties>
</file>